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ECD-ED27-47CD-8726-6BC49FA3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569-7CFD-490A-9237-3A0D360F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AE27-C89B-44F3-8D6E-B90A14F2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11E-0A39-4B26-AC92-103DFE1D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E999-039C-4835-9F39-B002925D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7BD2-AD90-4D24-9F59-477811A8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B729-1D0E-4AC8-B4FF-68F7AA0D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EFE3-50D8-4D4B-9B92-18B940A5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122A-6C20-4B75-9BB4-CEEEE5EE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C9C4-28A5-4639-B2EB-0F25987E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A26B-61EF-48CA-B032-904C8A06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45C-5E19-4CB7-AE59-E8DB43F3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B7EF-2D44-4E55-A349-D7AA49CA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C712-0EAA-451F-9C26-884E092E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AF36-F3DC-40E8-A264-B22B187D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8A85-3DEC-4549-9854-E64B378B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85C6-1E95-467D-B751-1E020B52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C1B07-FF01-4D31-AE18-989ADF7F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BB5CF-1D0F-46FE-ADDA-5FC12C1B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AD41A-1F61-43BA-896B-1F6C6C27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B51A6-54E5-46D9-B64B-DFF4D980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3062C-4A60-4F06-B333-EF4746B1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A73-C7F0-4EB6-956E-B43869D8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CE0F1-A76E-4DE8-A77A-4A19785C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25542-08BC-4A87-A1BC-84575CE4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B8446-3115-498A-BF12-BC7BE722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7298C-7226-4B96-93C5-41692B74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5D655-DA8C-4A95-A3EE-A04DB0A4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F3342-D723-49E5-B0F9-5989F5CA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842B5-AEF5-4CE5-B7E5-B714B726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247C2-AEEC-4EE5-A3B9-5388C80F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D4C52-6720-4978-B541-35F163B2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D8E36-FD7E-47F9-B2F1-DAB76F82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EE1-D11A-46D1-9CC9-41AAC4A6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162F5-8E16-421D-AC97-4F21A70C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563C5-EFA2-43D3-9407-1BC4D01C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C1BAA-A266-4CFA-A89D-220A34F1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B07E8-F9E7-4DE0-85EF-AB19C0FA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7D5BE-8042-4F2C-B8CA-A8792C42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BC1D7-C38C-4C4B-986F-48B123C9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2A962-4F5C-4A9F-84B2-FED93C1D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AF068-9E63-44AC-8D84-1DB0AABC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1ABC5-AE74-4CC9-B2BA-D0B0A421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8C8-25AE-4FF9-A219-B2318B39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2D4-FA10-4E8B-A436-128DF3BD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082-7650-492B-A3BD-F6583629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E8C-22B5-49E3-BE61-43D71033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8D5-2982-4300-865B-BB5D8501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F50A-2483-478A-89E3-19B1B2A90D6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1ED3-F594-4070-A33F-669EF45D951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CE68-87F2-4E7A-8494-C5366B9FFF1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BAFA-A045-4305-9C62-2212AC2C71B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1213920"/>
            <a:ext cx="7772400" cy="24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Управление качеством иноязычного образования в школе с углублённым изучением английского язы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28560" y="4500720"/>
            <a:ext cx="60008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итель  английского языка МАОУ «СОШ № 65 с углублённым изучением английского языка г. Пер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Четина Любовь Никола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9 лет в школе работает летний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родской американский лагерь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IMG_1764"/>
          <p:cNvPicPr/>
          <p:nvPr/>
        </p:nvPicPr>
        <p:blipFill>
          <a:blip r:embed="rId1"/>
          <a:stretch/>
        </p:blipFill>
        <p:spPr>
          <a:xfrm rot="20619000">
            <a:off x="534600" y="2158560"/>
            <a:ext cx="4303800" cy="3915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IMG_1930"/>
          <p:cNvPicPr/>
          <p:nvPr/>
        </p:nvPicPr>
        <p:blipFill>
          <a:blip r:embed="rId2"/>
          <a:stretch/>
        </p:blipFill>
        <p:spPr>
          <a:xfrm rot="1148400">
            <a:off x="4870440" y="2109600"/>
            <a:ext cx="3801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010"/>
          <p:cNvPicPr/>
          <p:nvPr/>
        </p:nvPicPr>
        <p:blipFill>
          <a:blip r:embed="rId1"/>
          <a:stretch/>
        </p:blipFill>
        <p:spPr>
          <a:xfrm rot="21016800">
            <a:off x="210960" y="1038240"/>
            <a:ext cx="4807080" cy="3386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014"/>
          <p:cNvPicPr/>
          <p:nvPr/>
        </p:nvPicPr>
        <p:blipFill>
          <a:blip r:embed="rId2"/>
          <a:stretch/>
        </p:blipFill>
        <p:spPr>
          <a:xfrm rot="1472400">
            <a:off x="4800600" y="3170160"/>
            <a:ext cx="3708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цес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бор сущностной и разносторонней информации о качестве образова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её обработ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тиза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убокий анализ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гноз дальнейшего развития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работка мер по коррекции образовательного процесса и созданных для него условий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нструмент  управления учебно-воспитательным процессо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авн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-помощь, выяснение неуспехов с целью дальнейшей коррекц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а не только оценить и выявить недостатк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иагностика, для наблюдения за развитием мотивации уч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нность мониторинга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аже небольшой успех обучаемого не остаётся незамеченны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нутренней и внешней оц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щи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ек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а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нами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индивидуальных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ученик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стремится обеспечи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рмаль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функционирование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чествен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е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обходим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уровень мотивации, здоровья и развития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йт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з режима функционирования в режим развит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целенаправленно занимаясь инновационной работо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Школьная модель мониторинг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который направлен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аналитическое отслеживание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цессов, определяющ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оличественно-качественные измен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ой среды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зультатов образовательного процесс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ффективности стратегического и оперативного управления образовательным учреждени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овременное средство контро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озволяет по-другому взглянуть на весь учебно-воспитательный процесс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зультаты, которых нам удалось достич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йтинговая оценка системы зна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ехнология портфолио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езотметочный мониторинг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положительной мотивац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ознание своей роли и предназнач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выбирать целевые и смысловые установки для своих действий и поступков, принимать реш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ладение эффективными способами организации своего досуг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самостоятельно добывать, анализировать и отбирать информацию,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ведомлённость в области социально-трудовой сферы, сферы семейных отноше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навыков работы в группе, выполнение различных социальных ролей в коллектив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готовность к поликультурному общению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владение креативными навыками продуктивной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онально-педагогическая поисковая и исследовательская активность коллектива учителей школы постоянно растёт. Коллектив учителей иностранных языков участвует в работе в рамках сетевого взаимодействия с инновационными школ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глийского и немецкого языков прош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зарубежную стажировку в школах и колледжах США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 программе обмена «Образование. Культура. Бизнес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ме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ысшую квалификационную категорию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чителя ИЯ нашей школы постоянно проводят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еминары, дискуссионные площадки, мастер классы, демонстрации открытых уроков, круглые столы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 другие мероприятия на базе ОУ на краевом и городском уровнях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ах активно используют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нгапурские 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звития 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метно-языков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нтегрирова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илингвального обучени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IT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межкультурной сред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станционные образовательные технолог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электро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реализует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ногоплановое и рационально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пользование носителей языка как средство повышения мотивации и эффе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неурочной деятельности по английскому языку. Это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стреч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носителями языка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н-лайн перепис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рубежные поездк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учащихся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фпроб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 ВУЗах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ED talk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искусс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4T17:26:15Z</dcterms:created>
  <dc:creator>lybov</dc:creator>
  <dc:description/>
  <dc:language>en-US</dc:language>
  <cp:lastModifiedBy>1</cp:lastModifiedBy>
  <dcterms:modified xsi:type="dcterms:W3CDTF">2019-02-07T03:17:59Z</dcterms:modified>
  <cp:revision>32</cp:revision>
  <dc:subject/>
  <dc:title>Слайд 1</dc:title>
</cp:coreProperties>
</file>